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B871-78F6-4424-A884-23E94B1644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4A0C-9A26-44BE-973D-EF2B00B5A4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0A24-612A-402A-B6DA-C26FB7A2A3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B399-EFEB-4ACE-B33B-709D122242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a transmission du paludis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7-14 j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l y a en général une période de 6 à 8 semaines entre la pointe de la saison des pluies et l’augmentation des cas de paludis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a pluie crée des sites de reproduction permettant aux moustiques de se multipl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 moustique pique une personne qui a des parasites (mais qui peut être en bonne santé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 parasite doit se développer à l’intérieur du moustique pour infecter une autre person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nsuite une personne est piquée par un moustique infectie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près une semaine ou 2, la personne présente les symptômes du paludism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1AB1-410A-4B71-B593-FF5CA13884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44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851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908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62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4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908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962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44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7851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44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7851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908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62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4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908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962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44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851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aa9a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aa9a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aa9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Straight Connector 3"/>
          <p:cNvSpPr/>
          <p:nvPr/>
        </p:nvSpPr>
        <p:spPr>
          <a:xfrm>
            <a:off x="762120" y="2590920"/>
            <a:ext cx="8381880" cy="0"/>
          </a:xfrm>
          <a:prstGeom prst="line">
            <a:avLst/>
          </a:prstGeom>
          <a:ln w="38160">
            <a:solidFill>
              <a:srgbClr val="7aa9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aa9a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aa9a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aa9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6840" y="2819160"/>
            <a:ext cx="8458200" cy="14475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ebf1de"/>
                </a:solidFill>
                <a:latin typeface="Calibri"/>
              </a:rPr>
              <a:t>Module 3 : Session 8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ebf1de"/>
                </a:solidFill>
                <a:latin typeface="Calibri"/>
              </a:rPr>
              <a:t>Prise en charge des cas de paludis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1018800"/>
            <a:ext cx="9144000" cy="1847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lIns="9000" rIns="9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800" spc="-1" strike="noStrike">
                <a:solidFill>
                  <a:srgbClr val="ffffff"/>
                </a:solidFill>
                <a:latin typeface="Calibri"/>
                <a:ea typeface="Arial"/>
              </a:rPr>
              <a:t>Formation pour les dépôts de vente de médicaments accrédités </a:t>
            </a:r>
            <a:br>
              <a:rPr sz="3800"/>
            </a:br>
            <a:r>
              <a:rPr b="1" i="1" lang="fr-FR" sz="3800" spc="-1" strike="noStrike">
                <a:solidFill>
                  <a:srgbClr val="ffffff"/>
                </a:solidFill>
                <a:latin typeface="Calibri"/>
                <a:ea typeface="Arial"/>
              </a:rPr>
              <a:t>Ouganda</a:t>
            </a:r>
            <a:endParaRPr b="1" lang="en-US" sz="3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Picture 4" descr="C:\Users\lgwoyita\Documents\SDSI\EADSI_UG Final Documents\Marketing\ADS Pictures\ADS in Karuguza.JPG"/>
          <p:cNvPicPr/>
          <p:nvPr/>
        </p:nvPicPr>
        <p:blipFill>
          <a:blip r:embed="rId1"/>
          <a:stretch/>
        </p:blipFill>
        <p:spPr>
          <a:xfrm>
            <a:off x="5257800" y="4419720"/>
            <a:ext cx="3382920" cy="224928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 4"/>
          <p:cNvGrpSpPr/>
          <p:nvPr/>
        </p:nvGrpSpPr>
        <p:grpSpPr>
          <a:xfrm>
            <a:off x="577800" y="5486400"/>
            <a:ext cx="3052800" cy="954000"/>
            <a:chOff x="577800" y="5486400"/>
            <a:chExt cx="3052800" cy="954000"/>
          </a:xfrm>
        </p:grpSpPr>
        <p:pic>
          <p:nvPicPr>
            <p:cNvPr id="88" name="Picture 5" descr=""/>
            <p:cNvPicPr/>
            <p:nvPr/>
          </p:nvPicPr>
          <p:blipFill>
            <a:blip r:embed="rId2"/>
            <a:stretch/>
          </p:blipFill>
          <p:spPr>
            <a:xfrm>
              <a:off x="577800" y="5486400"/>
              <a:ext cx="1170360" cy="95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6" descr=""/>
            <p:cNvPicPr/>
            <p:nvPr/>
          </p:nvPicPr>
          <p:blipFill>
            <a:blip r:embed="rId3"/>
            <a:stretch/>
          </p:blipFill>
          <p:spPr>
            <a:xfrm>
              <a:off x="2005200" y="5978880"/>
              <a:ext cx="1625400" cy="461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Le paludisme grave </a:t>
            </a:r>
            <a:r>
              <a:rPr b="0" lang="fr-FR" sz="4000" spc="-1" strike="noStrike">
                <a:solidFill>
                  <a:srgbClr val="ffffff"/>
                </a:solidFill>
                <a:latin typeface="Calibri"/>
              </a:rPr>
              <a:t>(2)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sente des symptômes sévères,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uvent avec un ou plusieurs signes d’alerte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Détresse respiratoire sévère ou gêne respiratoi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Anémie grave (extrême pâleur des paumes et des membranes muqueuses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Sévère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éshydratation (yeux enfoncés, langue saburrale, léthargie, incapable de boire)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Létharg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erte de conscie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Le paludisme grave : Perte de conscience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hez les adultes, demandez-vous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693720" indent="-353880">
              <a:lnSpc>
                <a:spcPct val="90000"/>
              </a:lnSpc>
              <a:spcBef>
                <a:spcPts val="601"/>
              </a:spcBef>
              <a:buClr>
                <a:srgbClr val="7aa9a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i le client est éveillé et attentif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693720" indent="-353880">
              <a:lnSpc>
                <a:spcPct val="90000"/>
              </a:lnSpc>
              <a:spcBef>
                <a:spcPts val="601"/>
              </a:spcBef>
              <a:buClr>
                <a:srgbClr val="7aa9a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i le client sait s’orienter, est intéressé et conscient de ce qui l’entoure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hez les jeunes enfants, demandez-vous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693720" indent="-353880">
              <a:lnSpc>
                <a:spcPct val="90000"/>
              </a:lnSpc>
              <a:spcBef>
                <a:spcPts val="601"/>
              </a:spcBef>
              <a:buClr>
                <a:srgbClr val="7aa9a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i l’enfant regarde sa mère ou la personne responsable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693720" indent="-353880">
              <a:lnSpc>
                <a:spcPct val="90000"/>
              </a:lnSpc>
              <a:spcBef>
                <a:spcPts val="601"/>
              </a:spcBef>
              <a:buClr>
                <a:srgbClr val="7aa9a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i l’enfant suit du regard un objet qu’on déplace devant ses yeux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693720" indent="-353880">
              <a:lnSpc>
                <a:spcPct val="90000"/>
              </a:lnSpc>
              <a:spcBef>
                <a:spcPts val="601"/>
              </a:spcBef>
              <a:buClr>
                <a:srgbClr val="7aa9a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i l’enfant réagit à des bruits forts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Calibri"/>
              </a:rPr>
              <a:t>Si la réponse à une de ces questions est non, ORIENTEZ immédiatement le cli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09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Enfants de moins de 5 ans : Symptômes les plus courants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440" y="1600200"/>
            <a:ext cx="80010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572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aludisme sans complication </a:t>
            </a:r>
            <a:r>
              <a:rPr b="0" lang="fr-FR" sz="3000" spc="-1" strike="noStrike" u="sng">
                <a:solidFill>
                  <a:srgbClr val="000000"/>
                </a:solidFill>
                <a:uFillTx/>
                <a:latin typeface="Calibri"/>
              </a:rPr>
              <a:t>ou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grave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Fièvre (température supérieure à </a:t>
            </a:r>
            <a:r>
              <a:rPr b="1" lang="fr-FR" sz="2200" spc="-1" strike="noStrike">
                <a:solidFill>
                  <a:srgbClr val="f79646"/>
                </a:solidFill>
                <a:latin typeface="Calibri"/>
              </a:rPr>
              <a:t>37,5 </a:t>
            </a:r>
            <a:r>
              <a:rPr b="1" lang="fr-FR" sz="2200" spc="-1" strike="noStrike" baseline="30000">
                <a:solidFill>
                  <a:srgbClr val="f79646"/>
                </a:solidFill>
                <a:latin typeface="Calibri"/>
              </a:rPr>
              <a:t>0</a:t>
            </a:r>
            <a:r>
              <a:rPr b="1" lang="fr-FR" sz="2200" spc="-1" strike="noStrike">
                <a:solidFill>
                  <a:srgbClr val="f79646"/>
                </a:solidFill>
                <a:latin typeface="Calibri"/>
              </a:rPr>
              <a:t>C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détectée avec un thermomètre ou au toucher) ou des antécédents de fièv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Perte d’appét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Faibles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Vomisse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aludisme grave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es symptômes cités ci-dessus, plus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éthargi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Raideur de la nuq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Bef>
                <a:spcPts val="55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Calibri"/>
              </a:rPr>
              <a:t>Exercice 1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lassez le paludisme en tant que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grav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ou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sans complic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Évaluer le paludisme (1)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480" y="1447920"/>
            <a:ext cx="6858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1. OBSERVEZ s’il y a des signes et des symptômes du paludis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99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. Dans l’affirmative, déterminez s’ils sont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sévèr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ou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sans complication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2. DEMANDEZ au client ou la personne responsable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. Quand la maladie a commenc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b. Comment elle a commenc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. Si des médicaments ont été administrés, en particulier des produits antipaludiques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343080">
              <a:lnSpc>
                <a:spcPct val="90000"/>
              </a:lnSpc>
              <a:spcBef>
                <a:spcPts val="499"/>
              </a:spcBef>
              <a:buClr>
                <a:srgbClr val="7aa9a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i OUI – demandez le type, la dose et la durée du traite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343080">
              <a:lnSpc>
                <a:spcPct val="90000"/>
              </a:lnSpc>
              <a:spcBef>
                <a:spcPts val="499"/>
              </a:spcBef>
              <a:buClr>
                <a:srgbClr val="7aa9a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i NON – continuez l’évalu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C:\Documents and Settings\Loi\Local Settings\Temporary Internet Files\Content.IE5\J3IU7QCT\MP900289889[1].jpg"/>
          <p:cNvPicPr/>
          <p:nvPr/>
        </p:nvPicPr>
        <p:blipFill>
          <a:blip r:embed="rId1"/>
          <a:stretch/>
        </p:blipFill>
        <p:spPr>
          <a:xfrm>
            <a:off x="6961320" y="3238560"/>
            <a:ext cx="21826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3. FAITES un Test de diagnostic rapide (TDR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601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’est le seul test au DVMA qui confirme le paludis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601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Nous examinerons comment faire le TDR dans la session suivan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Évaluer le paludisme </a:t>
            </a:r>
            <a:r>
              <a:rPr b="0" lang="fr-FR" sz="4000" spc="-1" strike="noStrike">
                <a:solidFill>
                  <a:srgbClr val="ffffff"/>
                </a:solidFill>
                <a:latin typeface="Calibri"/>
              </a:rPr>
              <a:t>(2)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our que le traitement corresponde à la maladi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7aa9a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e TDR confirme que la fièvre est due au paludis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7aa9a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e TDR confirme aussi qu’une fièvre n’est </a:t>
            </a:r>
            <a:r>
              <a:rPr b="0" lang="fr-FR" sz="2200" spc="-1" strike="noStrike" u="sng">
                <a:solidFill>
                  <a:srgbClr val="000000"/>
                </a:solidFill>
                <a:uFillTx/>
                <a:latin typeface="Calibri"/>
              </a:rPr>
              <a:t>pas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due au paludis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our contrôler les coû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7aa9a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es médicaments antipaludiques nouveaux et efficaces sont che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our éviter le développement d’une résista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7aa9a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’usage fréquent de ces médicaments peut rendre le paludisme </a:t>
            </a:r>
            <a:r>
              <a:rPr b="0" i="1" lang="fr-FR" sz="2200" spc="-1" strike="noStrike">
                <a:solidFill>
                  <a:srgbClr val="000000"/>
                </a:solidFill>
                <a:latin typeface="Calibri"/>
              </a:rPr>
              <a:t>résistant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à leurs effet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7aa9a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Il faudra alors d’autres médicaments, qui pourraient être encore plus chers.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Pourquoi perdre du temps à faire un TDR ? 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Directives d’orientation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Vous devez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ORIENTER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femmes enceintes atteintes de paludis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nourrissons de moins de 2 mo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enfants incapables de boire ou de s’allai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enfants présentant des convul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clients vomissant tout ce qu’ils aval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clients adultes qui sont désorienté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clients extrêmement faibl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clients avec une anémie grave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Traitement de pré-transfer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i vous orientez pour le paludism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1. Administrez un artésunate par voie recta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2. Donnez à l’enfant une boisson sucrée ou un jus de fruit pour éviter l’hypoglycémi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3. Administrez une dose de paracétamol en cas de température élevée (supérieure à 38,5 °C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4. Orientez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immédiatement vers un hôpit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854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raitements de première intention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téméther/luméfantrine (un ACT) :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lisez la notice du médicament pour déterminer la dose à administrer au cli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our les enfants de 2 à 4 mois, administrez de la quinine par voie ora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ur tous les clients : si les symptômes persistent,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ORIENTEZ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pour une prise en charge plus poussé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Prise en charge du paludisme sans complication (1) 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Objectifs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33520" y="15235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près avoir participé activement à cette session, la personne pourra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1. Expliquer comment déterminer si un client est atteint de paludisme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2. Donner des descriptions de clients avec des symptômes de paludisme, classer chaque cas de paludisme en tant que </a:t>
            </a:r>
            <a:r>
              <a:rPr b="0" i="1" lang="fr-FR" sz="2300" spc="-1" strike="noStrike">
                <a:solidFill>
                  <a:srgbClr val="000000"/>
                </a:solidFill>
                <a:latin typeface="Calibri"/>
              </a:rPr>
              <a:t>sans complication</a:t>
            </a: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 ou </a:t>
            </a:r>
            <a:r>
              <a:rPr b="0" i="1" lang="fr-FR" sz="2300" spc="-1" strike="noStrike">
                <a:solidFill>
                  <a:srgbClr val="000000"/>
                </a:solidFill>
                <a:latin typeface="Calibri"/>
              </a:rPr>
              <a:t>grav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3. Décrire comment orienter un client atteint d’un paludisme grave, y compris le traitement pré-transfert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4. Décrire comment prendre en charge un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paludisme sans complication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5. Citer au moins 3 façons de prévenir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le paludism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5638680" y="5029200"/>
            <a:ext cx="3048120" cy="1310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Arial"/>
              </a:rPr>
              <a:t>Les DVMA ont un rôle très important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Arial"/>
              </a:rPr>
              <a:t>dans la prise en charge du paludisme 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Arial"/>
              </a:rPr>
              <a:t>dans la communaut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85440" y="144792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utre traitement : si vous n’avez pas d’artéméther/ luméfantrine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66960" indent="-429480">
              <a:spcBef>
                <a:spcPts val="575"/>
              </a:spcBef>
              <a:buClr>
                <a:srgbClr val="7aa9a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Des comprimés mixtes contenant de l’artésunate et de l’amodiaquine (un autre ACT)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66960" indent="-429480">
              <a:spcBef>
                <a:spcPts val="575"/>
              </a:spcBef>
              <a:buClr>
                <a:srgbClr val="7aa9a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Dose :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96800" indent="-429480">
              <a:spcBef>
                <a:spcPts val="476"/>
              </a:spcBef>
              <a:buClr>
                <a:srgbClr val="7aa9ae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4 mg/kg d’artsunate par jour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396800" indent="-429480">
              <a:spcBef>
                <a:spcPts val="476"/>
              </a:spcBef>
              <a:buClr>
                <a:srgbClr val="7aa9ae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10 mg/kg d’amodiaquine par jour, une fois par jour pendant 3 jours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396800" indent="-429480">
              <a:spcBef>
                <a:spcPts val="476"/>
              </a:spcBef>
              <a:buClr>
                <a:srgbClr val="7aa9ae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Reportez-vous aux instructions du fabricant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966960" indent="-429480">
              <a:spcBef>
                <a:spcPts val="575"/>
              </a:spcBef>
              <a:buClr>
                <a:srgbClr val="7aa9a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Il peut être nécessaire de couper les comprimés pour les enfants de moins de 1 an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66960" indent="-429480">
              <a:spcBef>
                <a:spcPts val="575"/>
              </a:spcBef>
              <a:buClr>
                <a:srgbClr val="7aa9a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Calibri"/>
              </a:rPr>
              <a:t>REMARQUE </a:t>
            </a: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: Le contenu peut varier en fonction des marqu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15328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alibri"/>
              </a:rPr>
              <a:t>Prise en charge du </a:t>
            </a:r>
            <a:r>
              <a:rPr b="1" lang="fr-FR" sz="3400" spc="-1" strike="noStrike">
                <a:solidFill>
                  <a:srgbClr val="ffffff"/>
                </a:solidFill>
                <a:latin typeface="Calibri"/>
              </a:rPr>
              <a:t>paludisme sans complication </a:t>
            </a:r>
            <a:r>
              <a:rPr b="0" lang="fr-FR" sz="3400" spc="-1" strike="noStrike">
                <a:solidFill>
                  <a:srgbClr val="ffffff"/>
                </a:solidFill>
                <a:latin typeface="Calibri"/>
              </a:rPr>
              <a:t>(2)</a:t>
            </a:r>
            <a:endParaRPr b="1" lang="en-US" sz="3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440" y="16462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dministrez le cycle complet du traitement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aa9a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nombre de comprimés qu’il faudr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aa9a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endant le nombre de jours qu’il fa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REMARQUE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: pour les enfants, tenez compte du poids ou de l’âge pour déterminer la bonne dose et la bonne posologie !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dministrez le médicament oralement, sauf si le client vomit à maintes repri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Prise en charge du paludisme sans complication </a:t>
            </a: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(3)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Prise en charge de la fièvre (1)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440" y="15235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7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i la fièvre est présente tous les jours pendant 7 jours, orientez vers une évalu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914400" y="2362320"/>
          <a:ext cx="7696080" cy="2273040"/>
        </p:xfrm>
        <a:graphic>
          <a:graphicData uri="http://schemas.openxmlformats.org/drawingml/2006/table">
            <a:tbl>
              <a:tblPr/>
              <a:tblGrid>
                <a:gridCol w="2301840"/>
                <a:gridCol w="2075040"/>
                <a:gridCol w="3319200"/>
              </a:tblGrid>
              <a:tr h="4755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Â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solo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496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ul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 – 1000 m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fois par jour pendant 3 j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96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12 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 mg (20 m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fois par jour pendant 3 j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96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5 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 mg (10 m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fois par jour pendant 3 j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85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mois - 1 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 mg (5 m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fois par jour pendant 3 j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36" name="Rectangle 4"/>
          <p:cNvSpPr/>
          <p:nvPr/>
        </p:nvSpPr>
        <p:spPr>
          <a:xfrm>
            <a:off x="685800" y="1580040"/>
            <a:ext cx="6477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nnez du paracétamol ou de l’ibuprofè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Paracétam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Prise en charge de la fièvre </a:t>
            </a:r>
            <a:r>
              <a:rPr b="0" lang="fr-FR" sz="4000" spc="-1" strike="noStrike">
                <a:solidFill>
                  <a:srgbClr val="ffffff"/>
                </a:solidFill>
                <a:latin typeface="Calibri"/>
              </a:rPr>
              <a:t>(2)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i la fièvre est présente tous les jours pendant 7 jours, orientez vers une évalu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914400" y="2362320"/>
          <a:ext cx="7696080" cy="3201840"/>
        </p:xfrm>
        <a:graphic>
          <a:graphicData uri="http://schemas.openxmlformats.org/drawingml/2006/table">
            <a:tbl>
              <a:tblPr/>
              <a:tblGrid>
                <a:gridCol w="1523880"/>
                <a:gridCol w="1828800"/>
                <a:gridCol w="4343400"/>
              </a:tblGrid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Â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solo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ul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 – 400 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 – 4 fois par jour pendant 3 j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-12 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 mg (10 m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 – 4 fois par jour pendant 3 j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-7 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 mg (5 m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 – 4 fois par jour pendant 3 j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-2 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 mg (2,5 m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 – 4 fois par jour pendant 3 j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0" name="Rectangle 4"/>
          <p:cNvSpPr/>
          <p:nvPr/>
        </p:nvSpPr>
        <p:spPr>
          <a:xfrm>
            <a:off x="685800" y="1503720"/>
            <a:ext cx="5638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onnez du paracétamol ou de l’ibuprofè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buprofè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Prise en charge de la fièvre </a:t>
            </a:r>
            <a:r>
              <a:rPr b="0" lang="fr-FR" sz="4000" spc="-1" strike="noStrike">
                <a:solidFill>
                  <a:srgbClr val="ffffff"/>
                </a:solidFill>
                <a:latin typeface="Calibri"/>
              </a:rPr>
              <a:t>(3)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hez les enfant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enfants avec une température égale ou supérieure à 38,5 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 doivent recevoir leur première dose d’ACT pendant qu’ils sont au DV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seillez à la mère de revenir avec l’enfant dans 2 jours pour un suivi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si la fièvre persis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15328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Récapitulatif de la prise en charge du paludisme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uand nous prenons en charge le paludisme, nous cherchons à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aa9a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Réduire la propagation de la malad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aa9a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Éviter la résistance aux médica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orsque nous traitons les clients, nous visons un rétablissement rapide et complet après l’épisode de paludisme et à éviter une maladie grav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Calibri"/>
              </a:rPr>
              <a:t>Exercice 2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ctions du vendeur DVM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Conseiller les clients atteints de paludisme (1)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Expliquez au client ou à la personne responsable des soins que 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75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La cause de la maladie est le paludism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75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Le client doit suivre le cycle </a:t>
            </a:r>
            <a:r>
              <a:rPr b="0" lang="fr-FR" sz="2700" spc="-1" strike="noStrike" u="sng">
                <a:solidFill>
                  <a:srgbClr val="000000"/>
                </a:solidFill>
                <a:uFillTx/>
                <a:latin typeface="Calibri"/>
              </a:rPr>
              <a:t>complet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du traitement pour être totalement guéri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75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Les symptômes peuvent ne pas disparaître immédiatement après la première dose, cela pourrait prendre 2 jour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75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En cas de vomissements 30 minutes après avoir pris le médicament, une autre dose est nécessair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51"/>
              </a:spcBef>
              <a:buClr>
                <a:srgbClr val="7aa9a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7aa9a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4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pliquez au client ou à</a:t>
            </a: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personne responsable des soins (suite) de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sulter un agent de santé immédiatement si les symptômes empirent ou persistent au delà de 2 jou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venir en cas d’effets indésirables au médica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1048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Conseiller les clients atteints de paludisme </a:t>
            </a: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(2)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 paludisme est causé principalement par le protozoaire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Plasmodium falciparu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l est transmis par un moustique anophèle (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anopheles)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emelle infect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Comment le paludisme se propage d’une personne à une autre (1)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Définition du paludisme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 paludisme est une infection caractérisée par des frissons, de la fièvre et une sud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 paludisme est propagé par la piqûre d’un moustiq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Comment le paludisme se propage d’une personne à une autre </a:t>
            </a:r>
            <a:r>
              <a:rPr b="0" lang="fr-FR" sz="4000" spc="-1" strike="noStrike">
                <a:solidFill>
                  <a:srgbClr val="ffffff"/>
                </a:solidFill>
                <a:latin typeface="Calibri"/>
              </a:rPr>
              <a:t>(2)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550800" y="1752480"/>
            <a:ext cx="8296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Contrôle et prévention du paludisme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5998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our aider à éviter le paludisme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ormez sous des moustiquaires imprégnées d’insecticides (IT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tilisez des protections dans les maisons, comme des grillages métalliques et des ventilateur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Gardez les portes fermées le so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Évacuez l’eau stagnante autour des mais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Vaporisez des insecticides pour détruire les moustiqu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ébroussaillez autour de chez vo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C:\Users\admin\AppData\Local\Temp\Temporary Internet Files\Content.IE5\0DSWUH7T\MCj02868990000[1].wmf"/>
          <p:cNvPicPr/>
          <p:nvPr/>
        </p:nvPicPr>
        <p:blipFill>
          <a:blip r:embed="rId1"/>
          <a:stretch/>
        </p:blipFill>
        <p:spPr>
          <a:xfrm>
            <a:off x="7086600" y="3962520"/>
            <a:ext cx="1905120" cy="1569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C:\Documents and Settings\lgwoyita\Local Settings\Temporary Internet Files\Content.IE5\1UCIDPBZ\MC900150062[1].wmf"/>
          <p:cNvPicPr/>
          <p:nvPr/>
        </p:nvPicPr>
        <p:blipFill>
          <a:blip r:embed="rId2"/>
          <a:stretch/>
        </p:blipFill>
        <p:spPr>
          <a:xfrm>
            <a:off x="5143680" y="5867280"/>
            <a:ext cx="18666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Calibri"/>
              </a:rPr>
              <a:t>Exercice 3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Jeu de rôle : « Les méthodes anciennes par rapport aux méthodes moderne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Fardeau du paludisme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 paludisme représente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ntre le tiers et la moitié des clients se rendant dans les services de consultation exter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e admission sur cinq dans les hôpitau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 décès sur dix dans un hôpit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aa9a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Groupes vulnérables au paludisme 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Le paludisme peut affecter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n’importe qui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Les groupes suivants de personnes courent un plus grand risque d’être affectés par le paludisme, en particulier le paludisme grave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33480" indent="-533520">
              <a:spcBef>
                <a:spcPts val="700"/>
              </a:spcBef>
              <a:buClr>
                <a:srgbClr val="0000ff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nfants de moins de 5 a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33480" indent="-533520">
              <a:spcBef>
                <a:spcPts val="700"/>
              </a:spcBef>
              <a:buClr>
                <a:srgbClr val="0000ff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Femmes encei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33480" indent="-533520">
              <a:spcBef>
                <a:spcPts val="700"/>
              </a:spcBef>
              <a:buClr>
                <a:srgbClr val="0000ff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ersonnes vivant avec le VIH et le sid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33480" indent="-533520">
              <a:spcBef>
                <a:spcPts val="700"/>
              </a:spcBef>
              <a:buClr>
                <a:srgbClr val="0000ff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Voyageurs provenant de régions avec peu ou pas de transmission du paludis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33480" indent="-533520">
              <a:spcBef>
                <a:spcPts val="700"/>
              </a:spcBef>
              <a:buClr>
                <a:srgbClr val="0000ff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Clients atteints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 drépanocyt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85800" y="1599840"/>
            <a:ext cx="8113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ièvre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332640">
              <a:spcBef>
                <a:spcPts val="11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Température élevée détectée avec un thermomètre ou au touc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332640">
              <a:spcBef>
                <a:spcPts val="11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Antécédents de fièv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némie légère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332640">
              <a:spcBef>
                <a:spcPts val="11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Paumes, yeux et langue pâ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éshydratation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332640">
              <a:spcBef>
                <a:spcPts val="11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Bouche sèch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332640">
              <a:spcBef>
                <a:spcPts val="11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angue saburra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332640">
              <a:spcBef>
                <a:spcPts val="11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Yeux enfoncé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Le paludisme : Signes et symptômes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4" descr="C:\Users\admin\AppData\Local\Temp\Temporary Internet Files\Content.IE5\0DSWUH7T\MCj03510060000[1].wmf"/>
          <p:cNvPicPr/>
          <p:nvPr/>
        </p:nvPicPr>
        <p:blipFill>
          <a:blip r:embed="rId1"/>
          <a:stretch/>
        </p:blipFill>
        <p:spPr>
          <a:xfrm>
            <a:off x="7637400" y="5029200"/>
            <a:ext cx="116208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Classification du paludisme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9120" y="1600200"/>
            <a:ext cx="8001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Le paludisme peut être classé en tant que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aludisme sans com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aludisme gr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1000" cy="1325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Le paludisme sans complication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62120" y="17521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résente des symptômes légers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Fièvre ou antécédents de fièv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erte d’appét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Faibles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ausée/vomiss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aux de tê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ouleurs articula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ouleurs muscula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Le paludisme grave (1)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sente des symptômes sévères,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uvent avec un ou plusieurs signes d’alerte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75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Convulsions ou crises au cours des deux derniers jours ou au moment prése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75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Incapable de boire ou de s’allaite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75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Vomit tout ce qu’il aval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75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État mental altéré (léthargie, engourdissement, inconscience ou confusion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75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Incapable de se tenir debout ou de s’asseoir sans soutie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6:26:48Z</dcterms:created>
  <dc:creator>athomson</dc:creator>
  <dc:description/>
  <dc:language>en-US</dc:language>
  <cp:lastModifiedBy>Owner</cp:lastModifiedBy>
  <dcterms:modified xsi:type="dcterms:W3CDTF">2019-05-16T18:51:18Z</dcterms:modified>
  <cp:revision>260</cp:revision>
  <dc:subject/>
  <dc:title>Slide 1</dc:title>
</cp:coreProperties>
</file>