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5.wmf" ContentType="image/x-wmf"/>
  <Override PartName="/ppt/media/image23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30.wmf" ContentType="image/x-wmf"/>
  <Override PartName="/ppt/media/image31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11.png" ContentType="image/png"/>
  <Override PartName="/ppt/media/image9.jpeg" ContentType="image/jpeg"/>
  <Override PartName="/ppt/media/image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08AA-66D1-4E5B-9352-2AF8E0485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7A87-D6E2-41FA-8198-C7961E8E10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B4B6-2A66-40AD-B86D-D160F1FE82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5502-650E-4517-9735-E21B90541E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A837-4B5C-4725-B220-4185116027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2D70-E98D-46B4-8994-13AD686FFF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799A-E20F-498C-A808-4974BE37E0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32D-7209-455B-8B82-B2794912EA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5DAC-3F05-4124-A75F-2856C3C9A9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CDAA-09A1-4156-BC3C-53B8857E2E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ttelle lon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ttelle cou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veloppe pour la chevi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âton de to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6C0-9B26-427F-9EE6-D7B600FC94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9F6A-8B4E-4F3E-ABD6-848A53B7C0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location de l’épa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E34F-CF0B-4091-B0D8-41DCEB1115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C0F-7F30-4C5E-AAE3-780205E6A0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C6A0-D414-4085-ADBE-87CFD9FD6A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29E0-22A8-4CA9-8D26-37B7D67F20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1F34-3718-4910-A203-D8D15D94E3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1D7E-E8B6-4D17-9054-13A8857D16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Symptômes généraux de morsure de serp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LEFT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Cent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Vertiges - Évanouissement - Soif croissante - Maux de tê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Systém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ièvre - Douleur inten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Respiratoi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Gêne respiratoi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Site de la ble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aignement - Marques de crochets - Décoloration - Sensation de brûlure - Gonfl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Autres sites de la pea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âches de sang - Engourdissement - Picotement - Sud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Calibri"/>
              </a:rPr>
              <a:t>Flo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Cœur et vaissea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ouls rapide - Basse tension artérielle - État de choc sévè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Musculai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nvulsions - Perte de coordination - Faibles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Gastr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ausée - Vomiss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Calibri"/>
              </a:rPr>
              <a:t>Intestin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Diarrhé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6DC8-3E01-4B8E-B1C4-4B5631E802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172F-B037-49AF-AC87-22F3F7239C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F0CD-C82F-414A-9A53-66AD2E924B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219708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0772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219708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0772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972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364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972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364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0772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219708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0772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972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3640" y="159984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3972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3640" y="2197080"/>
            <a:ext cx="252720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219708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599840"/>
            <a:ext cx="383004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2197080"/>
            <a:ext cx="7848720" cy="5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7416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7000" indent="-5940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15800" indent="-5940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34600" indent="-59400">
              <a:spcBef>
                <a:spcPts val="799"/>
              </a:spcBef>
              <a:buClr>
                <a:srgbClr val="7aa9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traight Connector 3"/>
          <p:cNvSpPr/>
          <p:nvPr/>
        </p:nvSpPr>
        <p:spPr>
          <a:xfrm>
            <a:off x="762120" y="2590920"/>
            <a:ext cx="8381880" cy="0"/>
          </a:xfrm>
          <a:prstGeom prst="line">
            <a:avLst/>
          </a:prstGeom>
          <a:ln w="38160">
            <a:solidFill>
              <a:srgbClr val="7aa9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7416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7000" indent="-5940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15800" indent="-5940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34600" indent="-59400">
              <a:spcBef>
                <a:spcPts val="799"/>
              </a:spcBef>
              <a:buClr>
                <a:srgbClr val="7aa9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EADSI_Logo_Final_PillText_whiteLG.png"/>
          <p:cNvPicPr/>
          <p:nvPr/>
        </p:nvPicPr>
        <p:blipFill>
          <a:blip r:embed="rId3"/>
          <a:stretch/>
        </p:blipFill>
        <p:spPr>
          <a:xfrm>
            <a:off x="6324480" y="5715000"/>
            <a:ext cx="2684520" cy="1009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7416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7000" indent="-5940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15800" indent="-59400">
              <a:spcBef>
                <a:spcPts val="799"/>
              </a:spcBef>
              <a:buClr>
                <a:srgbClr val="7aa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34600" indent="-59400">
              <a:spcBef>
                <a:spcPts val="799"/>
              </a:spcBef>
              <a:buClr>
                <a:srgbClr val="7aa9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34600" indent="-5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6868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eece1"/>
                </a:solidFill>
                <a:latin typeface="Calibri"/>
                <a:ea typeface="Arial"/>
              </a:rPr>
              <a:t>Formation pour les dépôts de vente de médicaments accrédités </a:t>
            </a:r>
            <a:br>
              <a:rPr sz="3600"/>
            </a:br>
            <a:r>
              <a:rPr b="1" i="1" lang="fr-FR" sz="3600" spc="-1" strike="noStrike">
                <a:solidFill>
                  <a:srgbClr val="eeece1"/>
                </a:solidFill>
                <a:latin typeface="Calibri"/>
                <a:ea typeface="Arial"/>
              </a:rPr>
              <a:t>Ouganda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42640" y="2895480"/>
            <a:ext cx="7620120" cy="1371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eece1"/>
                </a:solidFill>
                <a:latin typeface="Calibri"/>
              </a:rPr>
              <a:t>Module 3 : Session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eece1"/>
                </a:solidFill>
                <a:latin typeface="Calibri"/>
              </a:rPr>
              <a:t>Premiers so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762120" y="5487840"/>
            <a:ext cx="3052800" cy="952560"/>
            <a:chOff x="762120" y="5487840"/>
            <a:chExt cx="3052800" cy="952560"/>
          </a:xfrm>
        </p:grpSpPr>
        <p:pic>
          <p:nvPicPr>
            <p:cNvPr id="127" name="Picture 5" descr=""/>
            <p:cNvPicPr/>
            <p:nvPr/>
          </p:nvPicPr>
          <p:blipFill>
            <a:blip r:embed="rId1"/>
            <a:stretch/>
          </p:blipFill>
          <p:spPr>
            <a:xfrm>
              <a:off x="762120" y="5487840"/>
              <a:ext cx="11703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"/>
            <p:cNvPicPr/>
            <p:nvPr/>
          </p:nvPicPr>
          <p:blipFill>
            <a:blip r:embed="rId2"/>
            <a:stretch/>
          </p:blipFill>
          <p:spPr>
            <a:xfrm>
              <a:off x="2189520" y="5979600"/>
              <a:ext cx="162540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5715000" y="4419720"/>
            <a:ext cx="29718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Qualités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600200"/>
            <a:ext cx="7925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 digne de confiance (ne volera pas les biens de la victime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 attentif et surveille ce qui se passe concernant la vic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 de l’empathie (se met à la place de la victim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 calme mais peut prendre rapidement une déc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1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 des premiers so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Étapes pour la gestion d’une urgence (1)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cherchez les signes de danger pour vous-même, puis pour la victi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sayez de savoir ce qui s’est passé et prenez des précautions pour éviter que la situation se reproduis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Si vous êtes sur les lieux de l’incident, sécurisez la situation en éliminant ou réduisant la cause du dang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Évaluez la victime et décidez de la mesure à prendre le plus vite possib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Donnez un traitement initial, et si la victime a besoin de plus d’attention, orientez-la vers un établissement de sant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Après l’incident, rangez le site de traitement et regarnissez votre kit de premiers soi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ise en charge d’une victime (2) </a:t>
            </a:r>
            <a:br>
              <a:rPr sz="3600"/>
            </a:b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peut se souvenir de l’évaluation initiale et des priorités avec les lettres suivantes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R ABC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ponse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prote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rway (libération des voies aérien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athing (ventilation pulmonai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rculation (sangu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- Danger</a:t>
            </a:r>
            <a:br>
              <a:rPr sz="3600"/>
            </a:b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érifiez la présence de signes de danger pour vous-même et la vic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liminez le danger ou retirez la victime si vous ne pouvez pas éliminer le da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voyez chercher de l’aide si vous avez quelqu’un avec vo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- Réponse</a:t>
            </a:r>
            <a:br>
              <a:rPr sz="3600"/>
            </a:b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rifiez si la victime est consciente/peut répond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sez des questions, par exemple, : « Ça va 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nnez un ordre, par exemple, : « Ouvrez les yeux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ouez-la doucement pour voir si elle peut réag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– Airway (libération des voies aériennes ou respiratoires) 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3427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rifiez rapidement s’il n’y a pas d’obstruction évidente dans les voies aériennes (par exemple, la langue peut avoir glissé vers l’arrière et bloquer les voies aériennes ; des dents, des caillots de sang, de la terre, etc. peuvent être présen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3427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ettoyez toute obstruction dans les voies aérien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3427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vrez les voies aériennes en soulev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menton tout en penchant la tê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ucement en arriè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C:\Users\admin\AppData\Local\Temp\Temporary Internet Files\Content.IE5\99PJWP7B\MPj04223040000[1].jpg"/>
          <p:cNvPicPr/>
          <p:nvPr/>
        </p:nvPicPr>
        <p:blipFill>
          <a:blip r:embed="rId1"/>
          <a:stretch/>
        </p:blipFill>
        <p:spPr>
          <a:xfrm>
            <a:off x="7010280" y="4343400"/>
            <a:ext cx="2133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– Breathing (ventilation pulmonaire)  (1)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3427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près avoir ouvert les voies aériennes, vérifiez la respiration en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3427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ttant votre joue juste au dessus de la bouche et du nez de la vic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3427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bservant la poitrine pour voir si elle bou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3427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coutant pour savoir si la personne resp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7760" indent="-3427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ntant le souffle contre votre jo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0560" indent="-3427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rifiez pendant dix secon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admin\AppData\Local\Temp\Temporary Internet Files\Content.IE5\0DSWUH7T\MPj04222690000[1].jpg"/>
          <p:cNvPicPr/>
          <p:nvPr/>
        </p:nvPicPr>
        <p:blipFill>
          <a:blip r:embed="rId1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- Breathing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 la victime ne respire pas, commencez immédiatement la réani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 la victime est inconsciente et respire, mettez-la immédiatement en position de réani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Content Placeholder 3" descr="Recovery_position.jpg"/>
          <p:cNvPicPr/>
          <p:nvPr/>
        </p:nvPicPr>
        <p:blipFill>
          <a:blip r:embed="rId1"/>
          <a:stretch/>
        </p:blipFill>
        <p:spPr>
          <a:xfrm>
            <a:off x="1905120" y="3657600"/>
            <a:ext cx="647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– Circulation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15998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rifiez la circulation sanguine en prenant le pouls sur le cou (pulsation de la carotide ) pendant dix secon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Vérifiez s’il y a des saigne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237348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7134120" y="2819520"/>
            <a:ext cx="20098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s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17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près avoir participé activement à cette session, la personne pourr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1. Énoncer l’objectif des premiers soi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2. Définir cinq termes courants utilisés relativement aux premiers soi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3. Citer les six étapes de la gestion des urg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4. Expliquer comment exécuter les cinq priorités initiales de l’évaluation (DR ABC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Exercice 2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Réanimation de la victime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76" name="Content Placeholder 3" descr="CPR.jpg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Réanimation de la victime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4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tape 1 (Figure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gagez les voies aérienn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tape 2 (Figure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victime étant étendue sur le dos, posez votre paume sur son front et renversez doucement sa tête vers l’arriè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uis de l’autre main, soulevez délicatement le menton vers l’avant pour ouvrir les voies aérien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Réanimation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3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tape 3 (Figure C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Les voies aériennes étant ouvertes, pincez les narines de la victime et couvrez entièrement sa bouche par la vô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onnez une insufflation de secours — pendant une seconde — et vérifiez si la poitrine se soulèv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i la poitrine se soulève, pratiquez une seconde insufflation. Vérifiez si la poitrine se soulève, écoutez si la victime respire normalement et vérifiez sa respiration sur votre joue et oreill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Réanimation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4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tape 4 (Figure 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a poitri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ne se soulève pa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épétez la manœuvre de la tête en arrière et du menton soulevé, puis pratiquez une seconde insuffl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tape 5 (Figure 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ente compressions de la poitrine suivies de deux insufflations de secours sont considérées comme un cy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tape 6 (Figure F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z la réanimation jusqu’à que la victime donne un signe de mouvement ou que le personnel médical prenne le relais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Autres points à ne pas oublier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447560"/>
            <a:ext cx="79250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sseyez ou étendez toujours une victime avant de vous en occuper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e vous précipitez pas pour déplacer une victime du lieu d’un accid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stez calme, serein et en contrôle de la situ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loignez la foule et utilisez l’aide des autres secouristes/agents de santé ou passants (observateurs) prés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nez la victime au sec et au chaud (couvrez-la légèrement) et minimisez les mouvements, le cas échéa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assurez la victime et les personnes qui l’accompagn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oints à ne pas oublier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60020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nseignez-vous sur le contexte, y compris la description de l’accident/la maladie par les passants ou de la victime, si pos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uvrez les blessures pour éviter l’infe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Ne donnez jamais à boire ou à manger à des victimes inconscien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tégez l’intimité de la victime ; c’est votre responsabilit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compagnez la victime à l’unité des soi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stez toujours face à la victime lorsque vous vous occupez d’ell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3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ani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828800"/>
            <a:ext cx="77724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emiers soins pour certaines conditions courantes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esures en cas d’étouffement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7896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apes dans le 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ssées abdomi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s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1000" indent="-35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. Décrire comment administrer les premiers soins aux victimes dans les situations urgentes suivante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35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35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47920" y="2438280"/>
          <a:ext cx="7238880" cy="342900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429000">
                <a:tc>
                  <a:txBody>
                    <a:bodyPr lIns="53280" rIns="53280" tIns="0" bIns="0" anchor="t">
                      <a:noAutofit/>
                    </a:bodyPr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êt de la respi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touff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vanouiss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ies/saign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gnement du n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ûlures et échau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c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lo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ox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qûres et mor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Étouffement (tapes dans le dos)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ction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Étape 1 : Tapes dans le 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assurez la vic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enchez-la en avant avec la tête plus bas que la poitri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ites-lui de touss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Tapez au maximum cinq fois entre les omoplates (la force de la tape doit être modérée pour éviter de causer un nouveau préjudice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Voyez si vous pouvez retirer l’ob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Étouffement (poussées abdominales)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tape 2 : Poussées abdomina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es tapes dans le dos ne suffisent pas, essayez de faire 5 poussées abdomin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ttez-vous derrière la vic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ez vos mains sous sa cage thorac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irez d’un coup sec, vers l’intérieur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ers le ha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cela ne suffit pas, demandez de l’a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z à répéter le cycle des tapes dans le 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s pressions abdominales jusqu’à la libé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voies ariennes ou l’arrivée de l’a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C:\Users\admin\AppData\Local\Temp\Temporary Internet Files\Content.IE5\99PJWP7B\MCHM00421_0000[1].wmf"/>
          <p:cNvPicPr/>
          <p:nvPr/>
        </p:nvPicPr>
        <p:blipFill>
          <a:blip r:embed="rId1"/>
          <a:stretch/>
        </p:blipFill>
        <p:spPr>
          <a:xfrm>
            <a:off x="7010280" y="312408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Évanouissement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4728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L’évanouissement est une perte temporaire de conscience attribuable à un apport sanguin insuffisant dans le cervea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L’évanouissement peut être accompagné de symptômes, tels que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erti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Vision floue (ne pas pouvoir bien voir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personne peut avoir le sentiment de perdre l’équilibre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ud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peau peut devenir fro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7aa9a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blesse générale du cor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Évanouissement : mesures à prendre (1) 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00200"/>
            <a:ext cx="7772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Étendez la victime sur le 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Desserrez ses vêtements (en particulier autour du cou et de la taill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Soulevez les jambes de la victime au dessus du niveau de son cœur pour augmenter la circulation du sang vers le cervea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. Veillez à ce que la victime ait suffisamment d’air fra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. Rassurez la victime et aidez-la à s’asseoir progressi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Évanouissement : mesures à prendre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. Si la victime recommence à s’évanouir, aidez-la à s’étendre à nouveau et soulevez ses jambes encore une fois jusqu’à ce qu’elle ait complètement récupéré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. Si la victime récupèr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pliquez-lui ce qui s’est pass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onnez-lui une boisson fraîche et sucrée et aspergez-la d’eau fro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8. Si la victime ne semble pas s’améliorer, orientez-la immédiatement vers le centre de soins le plus pro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4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vanouiss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lessures et saignement (1)</a:t>
            </a:r>
            <a:br>
              <a:rPr sz="4000"/>
            </a:b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828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ignement min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ignement maj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ignement du n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aignement mineur</a:t>
            </a:r>
            <a:br>
              <a:rPr sz="4000"/>
            </a:b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aignement mine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petites coupures)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. Laissez la blessure saigner pendant quel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. Appliquez directement une pression pendant dix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. Si elle est sale, nettoyez-la avec un produit antiseptique (par exemple, alcool, peroxyde d’hydrogène, etc.) et essuyez doucement l’endro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. Couvrez avec un pansement stérile (sparadrap ou bandage propr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5. Donnez un produit antiseptique pour un nettoyage quotidi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C:\Users\admin\AppData\Local\Temp\Temporary Internet Files\Content.IE5\0DSWUH7T\MPj04264580000[1].jpg"/>
          <p:cNvPicPr/>
          <p:nvPr/>
        </p:nvPicPr>
        <p:blipFill>
          <a:blip r:embed="rId1"/>
          <a:stretch/>
        </p:blipFill>
        <p:spPr>
          <a:xfrm>
            <a:off x="7162920" y="1447920"/>
            <a:ext cx="1272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aignement majeur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4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aignement majeur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. Étendez la vic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. Exposez délicatement la bles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. Appliquez une pression directe sur la blessure avec une compresse propre ou un pansement stér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i un objet est incrusté, appliquez la pression sur 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côté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 la bless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. Une fois le saignement sous contrôle, appliquez un pansement stérile et un bandage par-dessus la compresse initi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5911920" y="1523880"/>
            <a:ext cx="31557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aignement majeur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aignement majeur 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su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5. Si le sang suinte à travers le pansement, mettez un pansement supplémenta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6. Si la blessure est sur un membre, soulevez le memb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7. Traitez en cas d’état de cho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8. Prenez des mesures pour transporter la victime à l’établissement de santé le plus pro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Que sont les premiers soins ?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Les premiers soins sont l’aide urgente donnée à une personne blessée ou soudainement malade avant qu’elle soit transportée dans une unité de soi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aignement de nez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216" name="Content Placeholder 3" descr="Nosebleed.jpg"/>
          <p:cNvPicPr/>
          <p:nvPr/>
        </p:nvPicPr>
        <p:blipFill>
          <a:blip r:embed="rId1"/>
          <a:stretch/>
        </p:blipFill>
        <p:spPr>
          <a:xfrm>
            <a:off x="1371600" y="1905120"/>
            <a:ext cx="6705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09480" y="1755360"/>
            <a:ext cx="79250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tapes des premiers soi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. Mettez la victime en position assise, la tête penchée en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. (Cela permet au sang de s’écouler des narin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. Dites à la victime de pincer ses narines et de respirer par la bouche pendant 10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. Après dix minutes, dites-lui de libérer ses nar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. Si le nez saigne toujours, dites-lui de se pincer le nez à nouveau pendant 10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. Si le saignement dure plus de 30 minutes, orientez la victime vers l’établissement de santé le plus pro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aignement de nez 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09480" y="17557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tapes des premiers soins 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su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4. Nettoyez la région à l’eau tiède une fois que le saignement s’est arrêt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5. Conseillez à la victime de ne pas parler, avaler, tousser, cracher ou renifler pour éviter d’interférer avec la coagulation du sa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6. Conseillez à la victime de se reposer pendant quelques heures, en évitant de se moucher ou de retirer les caillo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aignement de nez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3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5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iter une blessure g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rûlures et échaudures (1)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rûlures et échau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sures à pren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lassifications des brûl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sures à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ne pa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ren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rûlures et échaudures (2)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brûlur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st une lésion causée par le contact avec une chaleur sèche (par exemple, un métal chaud, une boîte en fer, un couteau chaud, un feu de boi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échaudur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une brûlure intervenant à la suite du contact avec un liquide ou une vapeur brûl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remiers soins pour les brûlures et échaudures 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417680"/>
            <a:ext cx="7848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. Éloignez la personne blessée de la source de chaleur (dang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. Refroidissez la région de la brûlure en versant de l’eau froide des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. Retirez les vêtements et les bijoux de la région brûlée, sauf s’ils collent à la brûl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. Surveillez les signes d’état de cho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5. Placez une compresse stérile ou un tissu propre sur la brûl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6. Orientez la victime avec 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brûlure au 2</a:t>
            </a:r>
            <a:r>
              <a:rPr b="0" lang="fr-FR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è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 ou 3</a:t>
            </a:r>
            <a:r>
              <a:rPr b="0" lang="fr-FR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èm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 degré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vers le centre de soins le plus proch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700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700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lassification des brûlures (1)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5800" y="1600200"/>
          <a:ext cx="8001000" cy="3657600"/>
        </p:xfrm>
        <a:graphic>
          <a:graphicData uri="http://schemas.openxmlformats.org/drawingml/2006/table">
            <a:tbl>
              <a:tblPr/>
              <a:tblGrid>
                <a:gridCol w="3505320"/>
                <a:gridCol w="4495680"/>
              </a:tblGrid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e brû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es et symptô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ûlure au premier degr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brûlure est limitée à la couche extérieure de la p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eau semble ro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nflement et sensibili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brûlure guérit rapide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eau de la brûlure peut pe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4" descr="burn 1"/>
          <p:cNvPicPr/>
          <p:nvPr/>
        </p:nvPicPr>
        <p:blipFill>
          <a:blip r:embed="rId1"/>
          <a:stretch/>
        </p:blipFill>
        <p:spPr>
          <a:xfrm>
            <a:off x="914400" y="2590920"/>
            <a:ext cx="297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lassification des brûlures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1600200"/>
          <a:ext cx="8001000" cy="4933800"/>
        </p:xfrm>
        <a:graphic>
          <a:graphicData uri="http://schemas.openxmlformats.org/drawingml/2006/table">
            <a:tbl>
              <a:tblPr/>
              <a:tblGrid>
                <a:gridCol w="3657600"/>
                <a:gridCol w="4343400"/>
              </a:tblGrid>
              <a:tr h="228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ûlure au second degr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brûlure concerne la couche extérieure de la peau et la couche plus profonde de la p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tion de cloqu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eau est rouge et douloure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ûlure au troisième degr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brûlure affecte toutes les couches de la pe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nerfs, vaisseaux sanguins peuvent être endommagé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 ou aucune douleur en raison de l’atteinte nerve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4" descr="burn"/>
          <p:cNvPicPr/>
          <p:nvPr/>
        </p:nvPicPr>
        <p:blipFill>
          <a:blip r:embed="rId1"/>
          <a:stretch/>
        </p:blipFill>
        <p:spPr>
          <a:xfrm>
            <a:off x="882720" y="1905120"/>
            <a:ext cx="3232080" cy="1415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burn 33"/>
          <p:cNvPicPr/>
          <p:nvPr/>
        </p:nvPicPr>
        <p:blipFill>
          <a:blip r:embed="rId2"/>
          <a:stretch/>
        </p:blipFill>
        <p:spPr>
          <a:xfrm>
            <a:off x="958680" y="4191120"/>
            <a:ext cx="2884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Quatre mesures à NE PAS prendre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447560"/>
            <a:ext cx="80769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N’appliquez </a:t>
            </a:r>
            <a:r>
              <a:rPr b="0" lang="fr-FR" sz="29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 de matière grasse (beurre), de sucre, d’huile de cuisson ou de liquides d’un transformateur électrique sur la brûlure ! (Cela conservera la chaleur dans le corps.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26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N’utilisez </a:t>
            </a:r>
            <a:r>
              <a:rPr b="0" lang="fr-FR" sz="29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 de serviettes, de coton ou de couverture pour couvrir la région brûlé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26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Ne retirez </a:t>
            </a:r>
            <a:r>
              <a:rPr b="0" lang="fr-FR" sz="29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 tout ce qui peut être collé à la brûlure (par exemple, des vêtements brûlés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26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Ne percez </a:t>
            </a:r>
            <a:r>
              <a:rPr b="0" lang="fr-FR" sz="29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 les cloques ou ne touchez pas la région brûlée car cela pourrait causer une infection.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26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  <a:ea typeface="Arial"/>
              </a:rPr>
              <a:t>Les premiers soins peuvent être administrés par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Un bon samaritain (bénév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Une personne responsable, comme un agent de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Un secouriste formé aux premiers so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Un polic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Un agent de la Croix-Rou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Un vendeur DV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6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iter une brû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Fractur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600200"/>
            <a:ext cx="7925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racture ouv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racture ferm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es et symptô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sures à pren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sures à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ne pa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ren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Types de fractur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15998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s fractures sont divisées en 2 types principaux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racture ouverte Fracture fermée (simple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irc_mi" descr="understanding_fractures_basic_information"/>
          <p:cNvPicPr/>
          <p:nvPr/>
        </p:nvPicPr>
        <p:blipFill>
          <a:blip r:embed="rId1"/>
          <a:stretch/>
        </p:blipFill>
        <p:spPr>
          <a:xfrm>
            <a:off x="4495680" y="1676520"/>
            <a:ext cx="3733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Fracture ouverte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212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fracture ouverte est un os cassé avec une blessure ouverte à l’endroit de la lé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 type de fracture a de grandes chances d’être infectée par des bacté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Fracture fermée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ce type de fracture, l’os cassé reste à l’intérieur de la pea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09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auses courantes de fractur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838080" y="1600200"/>
          <a:ext cx="7696440" cy="5191200"/>
        </p:xfrm>
        <a:graphic>
          <a:graphicData uri="http://schemas.openxmlformats.org/drawingml/2006/table">
            <a:tbl>
              <a:tblPr/>
              <a:tblGrid>
                <a:gridCol w="3848400"/>
                <a:gridCol w="38480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fan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ult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cyclette ou accidents de taxis moto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cidents (bicyclette, accidents de taxis motos, moteur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otbal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garr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ute d’un arb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téoporose chez les femmes âgé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ute dans un fossé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garr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ignes et symptôm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uleur et enf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liage et torsion au point fractur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ignement au point de lésion (fracture ouver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iculté à bouger la partie bless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formation de la partie bless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s des premiers soin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480" y="155412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viter le mouvement au point de lé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endre des dispositions pour le transfert au centre de soins ou à l’hôpital dans un moyen de transport confort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emiers soins (mesures à prendre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Appliquez une attelle au membre bless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es un support pour la partie blessée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. Si c’est un membre supérieur, mettez le bras en échar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. Si c’est un membre inférieur, attachez la jambe non blessée à celle qui est blessé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Transférez la victime à l’hôpi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Utilisation d’attelle en cas de fracture : Image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258" name="Content Placeholder 3" descr="Splint Improvised.jpg"/>
          <p:cNvPicPr/>
          <p:nvPr/>
        </p:nvPicPr>
        <p:blipFill>
          <a:blip r:embed="rId1"/>
          <a:stretch/>
        </p:blipFill>
        <p:spPr>
          <a:xfrm>
            <a:off x="1523880" y="182880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s des premiers soins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Sauver la vie de la personne bless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Éviter que la blessure ou la maladie ne s’aggr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Soulager la douleur et éviter l’infe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. Favoriser une récupération rap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C:\Users\admin\AppData\Local\Temp\Temporary Internet Files\Content.IE5\PKSOPVWR\MCj03590770000[1].wmf"/>
          <p:cNvPicPr/>
          <p:nvPr/>
        </p:nvPicPr>
        <p:blipFill>
          <a:blip r:embed="rId1"/>
          <a:stretch/>
        </p:blipFill>
        <p:spPr>
          <a:xfrm>
            <a:off x="4876920" y="4419720"/>
            <a:ext cx="30542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esures à NE PAS prendre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480" y="1600200"/>
            <a:ext cx="7925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’essayez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e redresser un membre bless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N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serrez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rop la bande sur le point de lésion si la victime a une fracture ouver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Interdisez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à la victime de manger ou de boire avant d’avoir été examinée par le personnel de santé qualifi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Dislocation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’est le déplacement d’un os de sa position normale dans le corps (en général une articula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slocation a lieu généralement à l’épaule, la cheville ou à l’articulation de la hanche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irc_mi" descr="http://www.eorthopod.com/sites/default/files/images/shoulder_dislocation_intro01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30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ignes et symptôm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480" y="1600200"/>
            <a:ext cx="7925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uleur int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iculté à bouger les articulations affecté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onflement et contusion autour de l’artic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liage ou torsion de la ré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aus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rsion spontanée de l’articulation en marchant ou en jouant au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Objectifs des premiers so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viter le mouvement au point de lé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endre des dispositions pour le transfert au centre de soins ou à l’hô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emiers soins (mesures à prendre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11444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seillez à la victime de rester calme et de minimiser les mouvemen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tes un support pour la partie blessé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nimisez le mouvement de la partie blessée en appliquant un bandage solide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liquez une compresses froide ou de la glace sur la partie affecté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enez des dispositions pour transporter la victime à l’hôpit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irc_mi" descr="how-to-make-an-arm-sling"/>
          <p:cNvPicPr/>
          <p:nvPr/>
        </p:nvPicPr>
        <p:blipFill>
          <a:blip r:embed="rId1"/>
          <a:stretch/>
        </p:blipFill>
        <p:spPr>
          <a:xfrm>
            <a:off x="685800" y="1600200"/>
            <a:ext cx="327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7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iter une fracture ou une dis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Intoxication</a:t>
            </a:r>
            <a:br>
              <a:rPr sz="4000"/>
            </a:b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sons inhal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sons aval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sons en contact avec la p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C:\Users\admin\AppData\Local\Temp\Temporary Internet Files\Content.IE5\99PJWP7B\MCj03791830000[1].wmf"/>
          <p:cNvPicPr/>
          <p:nvPr/>
        </p:nvPicPr>
        <p:blipFill>
          <a:blip r:embed="rId1"/>
          <a:stretch/>
        </p:blipFill>
        <p:spPr>
          <a:xfrm>
            <a:off x="6326280" y="3962520"/>
            <a:ext cx="1674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Intoxication</a:t>
            </a:r>
            <a:br>
              <a:rPr sz="4000"/>
            </a:b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s premiers so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intenir ouvertes les voies respiratoires de la victime, la respiration et la circ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intenir ou créer un environnement sûr pour la victime et vous-mê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dentifier le poison, si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mander une aide médic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rg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4" descr="C:\Users\admin\AppData\Local\Temp\Temporary Internet Files\Content.IE5\99PJWP7B\MCj03791830000[1].wmf"/>
          <p:cNvPicPr/>
          <p:nvPr/>
        </p:nvPicPr>
        <p:blipFill>
          <a:blip r:embed="rId1"/>
          <a:stretch/>
        </p:blipFill>
        <p:spPr>
          <a:xfrm>
            <a:off x="6326280" y="3962520"/>
            <a:ext cx="1674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oisons inhalés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sures 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Déplacez la victime à l’air frais ou ouvrez les fenêt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Si possible, coupez la source du pois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Faites une première éval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74440" indent="-2192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a victime respire mais est inconsciente, mettez-la en position de récupération et surveillez (DR A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74440" indent="-2192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a victime a arrêté de respirer, commencez la réani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. Orientez vers un établissement de santé le plus vit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1800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oisons avalés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sur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Faites une première éval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116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a victime est inconsciente, mettez-la en position de récupération, surveillez (DR ABC) et soyez prêt à la réani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116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a victime est consciente, mettez-la en position de récupération et essayez de savoir ce qu’elle a aval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Collectez le ou les récipients qui contenaient le pois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Ne faites PAS vomir et ne donnez pas de laxat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116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1160" indent="-228600">
              <a:spcBef>
                <a:spcPts val="60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C:\Users\admin\AppData\Local\Temp\Temporary Internet Files\Content.IE5\K6H29HNJ\MCj03708440000[1].wmf"/>
          <p:cNvPicPr/>
          <p:nvPr/>
        </p:nvPicPr>
        <p:blipFill>
          <a:blip r:embed="rId1"/>
          <a:stretch/>
        </p:blipFill>
        <p:spPr>
          <a:xfrm>
            <a:off x="7931160" y="1600200"/>
            <a:ext cx="907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Définition des termes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44756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Urg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gence est une situation ou un événement soudain, grave et dangereux, qui nécessite des mesures immédiates pour la prise en char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Vic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victime est une personne qui est blessée ou mala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Secour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 secouriste est une personne qui a reçu une formation pour prodiguer les premiers so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oisons avalés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1000" indent="-351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4. Si la victime a avalé un poison corrosif, faites-lui boire fréquemment des gorgées d’eau ou de la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351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5. Si la réanimation est nécessaire, utilisez une protection pour vous protég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351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6. Orientez la victime à l’unité de soins la plus proche pour une prise en charge plus poussé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351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7. Envoyez la victime avec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69840" indent="-342720">
              <a:spcBef>
                <a:spcPts val="11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récipients qui contenaient le poi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69840" indent="-342720">
              <a:spcBef>
                <a:spcPts val="11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n prélèvement des vomissements de la victime, si elle vom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oisons en contact avec la peau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sur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Faites une première éval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Ne touchez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A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a zone affectée avec les mains n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Retirez tous les vêtements contaminés par le poison, si ce n’est pas dangereu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. Lavez le poison avec de grandes quantités d’ea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itez de vous éclabousser avec l’eau contaminée ou d’en mettre dans les yeux, la bouche ou le nez de la vic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cas de brûlures chimiques, continuez à asperger avec de l’eau pendant au moins 20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e réutilisez pas la même ea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oisons en contact avec la peau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44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. Essayez de protéger l’intimité de la victime, si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. Si la victime est inconsciente, mettez-la en position de récupération et surveillez (DR AB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8. Soyez prêt à réani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tilisez une protection si le visage est contamin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1000" indent="-351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9. S’il n’y a aucune amélioration, orientez vers l’unité de soins la plus proch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8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iter une personne qui a été intoxiquée (3 scénario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iqûres et morsur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1447560"/>
            <a:ext cx="80010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iqû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’ins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ors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’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orsures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erp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3" descr="ANd9GcQsZhhEPua4MQlVpkz8li9yfBUrEkUSXcsm3mWQEitzvtTnE77e"/>
          <p:cNvPicPr/>
          <p:nvPr/>
        </p:nvPicPr>
        <p:blipFill>
          <a:blip r:embed="rId1"/>
          <a:stretch/>
        </p:blipFill>
        <p:spPr>
          <a:xfrm>
            <a:off x="3581280" y="1447920"/>
            <a:ext cx="236232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2189160" cy="1447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3"/>
          <a:stretch/>
        </p:blipFill>
        <p:spPr>
          <a:xfrm>
            <a:off x="3581280" y="5108400"/>
            <a:ext cx="1295640" cy="15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iqûres d’insecte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1447560"/>
            <a:ext cx="80010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a piqûre est la lésion et la douleur causées par le contact avec le poison d’un insec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s causes courantes de piqûre dans la communauté englobent les abeilles, les guêpes et la mouche de Nairob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ANd9GcQsZhhEPua4MQlVpkz8li9yfBUrEkUSXcsm3mWQEitzvtTnE77e"/>
          <p:cNvPicPr/>
          <p:nvPr/>
        </p:nvPicPr>
        <p:blipFill>
          <a:blip r:embed="rId1"/>
          <a:stretch/>
        </p:blipFill>
        <p:spPr>
          <a:xfrm>
            <a:off x="1676520" y="4191120"/>
            <a:ext cx="5638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ignes et symptôme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600200"/>
            <a:ext cx="723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douleur vive de pico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blancheur au point de la piqû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gonflement et une rougeur du point affec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 des premiers soins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16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lager le gonflement et la doule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nsférer au centre de soins ou à l’hôpital, le cas éché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remiers soins (mesures à prendre) (1)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48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Éloignez la victime du dan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Rassurez la vic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Donnez-lui une couver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. Retirez les dards avec les ongles, s’ils sont visibles ou avec une pince à épiler, le cas échéant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Premiers soins (mesures à prendre) (2)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480" y="1600200"/>
            <a:ext cx="7772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. Appliquez de l’eau froide ou une vessie de glace sur la zone affectée pendant au moins 10 minu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. Donnez du Piriton ou du Cétirizine pendant 3 jours pour soulager la démangeais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8. Orientez le client vers un centre de soins, le cas échéa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09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Définition des termes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794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Bon sama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personne qui aide et exprime de la compassion à ceux qui en ont beso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Kit de premiers so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boîte ou une trousse contenant les articles utilisés pour prodiguer les premiers so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orsures d’animal (1)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48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morsure est une perforation ou une lésion de la peau causée par un animal viv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morsures les plus courantes dans la communauté sont celles causées par les chiens, chats, renard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nges et serp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4927680" y="4267080"/>
            <a:ext cx="3225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orsures d’animal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(2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120" y="1600200"/>
            <a:ext cx="80773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morsure d’un de ces animaux exige des premiers soins et une attention médicale pour éviter une infection bactérienne ou virale (par exemple, la rag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morsures les plus courantes sont mineures sauf si l’animal est atteint de la r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L’animal a-t-il la rage ? 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176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est possible qu’un chien soit enragé s’il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vient sauv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très ag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 de la mousse autour de la gue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 une victime a été mordue par un animal atteint de la rage, orientez immédiatement la victime vers l’unité de santé la plus proc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Objectifs des premiers soins pour une morsure d’animal </a:t>
            </a:r>
            <a:endParaRPr b="1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48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trôler le saign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inimiser le risque d’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remiers soins (mesures à prendre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1. Mettez des gants jetables, le cas échéa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2. Lavez la partie mordue avec beaucoup d’eau et de savon pour éviter l’infec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3. Rassurez la vic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4. Contrôlez tout saignement en pressant ferme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5. Couvrez légèrement la blessure avec une gaze stérile ou un sparadrap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6. Orientez immédiatement la victime vers l’unité de santé la plus proc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orsures de serpent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s premiers soin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ssurer la vic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viter la propagation du poison du serp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tenir immédiat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a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d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2438640" cy="2895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Cobra.jpg"/>
          <p:cNvPicPr/>
          <p:nvPr/>
        </p:nvPicPr>
        <p:blipFill>
          <a:blip r:embed="rId2"/>
          <a:stretch/>
        </p:blipFill>
        <p:spPr>
          <a:xfrm>
            <a:off x="3200400" y="3886200"/>
            <a:ext cx="27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esures à prendre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28600" y="1676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40920">
              <a:spcBef>
                <a:spcPts val="700"/>
              </a:spcBef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Lavez la blessure à l’eau et au savon, le cas éché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0920">
              <a:spcBef>
                <a:spcPts val="700"/>
              </a:spcBef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Rassurez la victime pour diminuer son anxiét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0920">
              <a:spcBef>
                <a:spcPts val="700"/>
              </a:spcBef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Gardez la victime au repos, étendue, avec la partie affectée plus haut que le niveau de son cœ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0920">
              <a:spcBef>
                <a:spcPts val="700"/>
              </a:spcBef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. Si la morsure est sur un membre, appliquez un bandage compressif pour immobiliser la zone ; appliquez une attelle, si nécessai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0920">
              <a:spcBef>
                <a:spcPts val="700"/>
              </a:spcBef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. Orientez immédiatement le client avec un centre de soins III ou I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6840" y="1714320"/>
            <a:ext cx="8077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e coupez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a bl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’appliquez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 succion à la bl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’utilisez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 tourniquet ou de bandage compressi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’appliquez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ou n’injectez pas de produits chimiques ou de médica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a bl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’utilisez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pa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 glace sur 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l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4" descr="C:\Users\admin\AppData\Local\Temp\Temporary Internet Files\Content.IE5\K6H29HNJ\MCAN04346_0000[1].wmf"/>
          <p:cNvPicPr/>
          <p:nvPr/>
        </p:nvPicPr>
        <p:blipFill>
          <a:blip r:embed="rId1"/>
          <a:stretch/>
        </p:blipFill>
        <p:spPr>
          <a:xfrm>
            <a:off x="7834320" y="1714680"/>
            <a:ext cx="1309680" cy="1447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D:\snake-bite.jpg"/>
          <p:cNvPicPr/>
          <p:nvPr/>
        </p:nvPicPr>
        <p:blipFill>
          <a:blip r:embed="rId2"/>
          <a:stretch/>
        </p:blipFill>
        <p:spPr>
          <a:xfrm rot="19755600">
            <a:off x="5756040" y="4214520"/>
            <a:ext cx="2106360" cy="1635120"/>
          </a:xfrm>
          <a:prstGeom prst="rect">
            <a:avLst/>
          </a:prstGeom>
          <a:ln w="0">
            <a:noFill/>
          </a:ln>
        </p:spPr>
      </p:pic>
      <p:sp>
        <p:nvSpPr>
          <p:cNvPr id="328" name="Title 1"/>
          <p:cNvSpPr/>
          <p:nvPr/>
        </p:nvSpPr>
        <p:spPr>
          <a:xfrm>
            <a:off x="685800" y="27468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  <a:ea typeface="Arial"/>
              </a:rPr>
              <a:t>Mesures à NE PAS pren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orsures de serpent : symptômes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330" name="Content Placeholder 3" descr=""/>
          <p:cNvPicPr/>
          <p:nvPr/>
        </p:nvPicPr>
        <p:blipFill>
          <a:blip r:embed="rId1"/>
          <a:srcRect l="-25608" t="0" r="-25608" b="0"/>
          <a:stretch/>
        </p:blipFill>
        <p:spPr>
          <a:xfrm>
            <a:off x="990720" y="1297080"/>
            <a:ext cx="75438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rcice 9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ider une personne qui a été mordue ou piqu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Qualités d’un bon secouriste (1)</a:t>
            </a:r>
            <a:endParaRPr b="1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00200"/>
            <a:ext cx="7772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ssède les bonnes connaissances et compétences pour les premiers so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 prêt à aider un autre secouris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t preuve de créativité en utilisant les ressources disponibles dans la communau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 de bonnes compétences en commun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 confi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aa9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6:26:48Z</dcterms:created>
  <dc:creator>athomson</dc:creator>
  <dc:description/>
  <dc:language>en-US</dc:language>
  <cp:lastModifiedBy>Owner</cp:lastModifiedBy>
  <dcterms:modified xsi:type="dcterms:W3CDTF">2019-05-16T18:46:56Z</dcterms:modified>
  <cp:revision>317</cp:revision>
  <dc:subject/>
  <dc:title>Slide 1</dc:title>
</cp:coreProperties>
</file>